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7C56-01D1-42D5-8B71-0BA97CDE4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D879-CEF7-416F-9780-5FF64819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003A-1EFA-439D-AA16-FE3B5F9C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A67C-1925-4C67-9891-D98C2173C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8E99-2A2A-4B76-90CA-506E893CA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3CA-1223-4CFB-8BE0-7AC089C4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2ECB-A10F-45B9-897A-3964FFB94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0576-62BF-4162-BF89-A5E0D3F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998-F03D-4B00-A5B5-B810B0AF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7F39-C912-4ABF-93E4-4C3DDD2F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53D-FA49-497D-9801-8707A7B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1E99-0315-4A3B-BA72-C391B2E5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D78-98EC-463B-B51B-96CF787A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journals.plos.org/plosone/article?id=10.1371/journal.pone.0144239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760" y="1498680"/>
            <a:ext cx="9524880" cy="4216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5680" y="279360"/>
            <a:ext cx="936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ble 1. Genetic Diversity and Domestic Cattle Introgres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44600" y="6515280"/>
            <a:ext cx="918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lack DH, Dobson LK, du Toit JT, Derr J (2015) Genetic Analysis of the Henry Mountains Bison Herd. PLOS ONE 10(12): e0144239. https://doi.org/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journals.plos.org/plosone/article?id=10.1371/journal.pone.01442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